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428-B412-4806-934E-4BAA4B3B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EA4-9B94-4E92-AD22-A885C5E4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FE6-BBBD-4C03-8F48-0E919178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C88-13DC-4A81-A257-102833A0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D43-216F-4172-87A1-521FD74B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9F5A-9A5B-4903-B28A-4D8520E1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D1BA-6D50-4889-8178-6A49B6B0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917-F1D2-4A89-A316-5004522F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CD26-9BC2-4FF5-91D0-11562FA3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0F8-7187-4AAC-A24E-B4D65DDE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D6BF-310A-491B-A7F1-577F2914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3CD3-761B-431D-AE2F-45F2CBBA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B201-0892-4CFA-89F7-2BB69D362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76320"/>
            <a:ext cx="72723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4ca13"/>
                </a:solidFill>
                <a:uFillTx/>
                <a:latin typeface="Times New Roman"/>
              </a:rPr>
              <a:t>Now Faith - Hebrews 11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Now faith is the substance of things hop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The evidence of things not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Now faith is the substance of things hop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The evidence of things not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Hebrews eleven verse one, it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Hebrews eleven verse one, it is writ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Now faith is the substance of things hop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The evidence of things not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©2006 Bootsinall Mus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70976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39:39Z</dcterms:modified>
  <cp:revision>31</cp:revision>
  <dc:subject/>
  <dc:title>Slide 1</dc:title>
</cp:coreProperties>
</file>