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39C-3335-4CC5-962C-2F770BC7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B38-86CA-418B-8D2A-5176E1D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63D-2E4B-410E-8897-59E6846D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F0A-6A33-4071-B0AA-4820359A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BA5-5AD6-4221-A032-C0512514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BA6-15EE-4B69-A051-6231A69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09C-3C4F-44C8-A470-1D7861D5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E07-9FC5-4FA5-8FBA-7C83C0B3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95D-3329-4B68-BD24-D36FE3FC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DE8-1940-49C9-9623-75C95D14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C0A-0269-49D1-A502-92D448C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458-BF7F-45F8-A41F-BE5D6AF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8E2F-250B-4BE2-8A69-C36BF481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85800"/>
            <a:ext cx="72723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4ca13"/>
                </a:solidFill>
                <a:uFillTx/>
                <a:latin typeface="Times New Roman"/>
              </a:rPr>
              <a:t>For the Wages of Sin - Romans 6: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For the wages of sin is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But the gift of God is etern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In Christ Jesus our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Romans six, twenty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©2004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CCLI #7097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5:16Z</dcterms:modified>
  <cp:revision>35</cp:revision>
  <dc:subject/>
  <dc:title>Slide 1</dc:title>
</cp:coreProperties>
</file>