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810-7BE4-4632-BBEE-4BFABEE6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932-41B4-4825-A6CE-F6FFBEA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941-0F5C-4215-9346-8BCEAEB7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7C1-7134-4980-BF1E-3CF47D26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AB9-CDCC-4DB0-875D-31FDB32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CA8-50B7-40DD-BFCC-6972E0E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DB5-8650-44BD-8ED2-B70CD2BE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312-3A4D-463A-A1D8-FE7B24C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88F-E58B-4101-AEFA-21F49C7F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24C-87DF-4EBB-878B-6C12FDE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32C-7DB2-4DC4-8CC8-5B9FA41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1BB-F23C-405E-8E85-B3F241A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A4E3-18D7-4259-8E9D-8E0D7076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77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4ca13"/>
                </a:solidFill>
                <a:uFillTx/>
                <a:latin typeface="Times New Roman"/>
              </a:rPr>
              <a:t>Therefore Submit to God – James 4: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Therefore submit t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Resist the devil and he will flee from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Therefore submit t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Resist the devil and he will flee from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James four verse seven s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James four verse 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James four verse seven s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Draw near to God, He’ll draw near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Draw near to God, He’ll draw near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Therefore submit t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Resist the devil and he will flee from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Therefore submit t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Resist the devil and he will flee from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4ca13"/>
                </a:solidFill>
                <a:latin typeface="Times New Roman"/>
              </a:rPr>
              <a:t>(to fin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Therefore submit to God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02:33Z</dcterms:modified>
  <cp:revision>25</cp:revision>
  <dc:subject/>
  <dc:title>Slide 1</dc:title>
</cp:coreProperties>
</file>