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7A5-6184-4DF6-879E-7583C317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436-6CA0-484B-AB01-5023A78F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C29-5D98-48B3-897E-620D0206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07B-AAE9-40ED-A5C8-ECE919CB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8A2-120B-43F1-8B1B-C334579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12E-388B-4656-887B-08126037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E12-3AB8-42ED-B636-B14F604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86B-B886-48A4-853C-87FB55E6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BCA-8B13-4BC8-92CB-7AA9BEE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E87-754E-4F8D-AD71-420788A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8C1-D05A-4E40-A328-6C9C920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030-FEC6-4175-9AC8-ED9B9D4E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3089-9624-4B4E-865D-80AF207B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08080"/>
            <a:ext cx="727236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4ca13"/>
                </a:solidFill>
                <a:uFillTx/>
                <a:latin typeface="Times New Roman"/>
              </a:rPr>
              <a:t>Las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La la la la la las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B b b b baked 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W w w we’re so hungry  (we’re so hung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Lord You know what that mea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4ca13"/>
                </a:solidFill>
                <a:latin typeface="Times New Roman"/>
              </a:rPr>
              <a:t>(rep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Tha</a:t>
            </a:r>
            <a:r>
              <a:rPr b="0" lang="en-US" sz="2800" spc="-1" strike="noStrike">
                <a:solidFill>
                  <a:srgbClr val="f4ca13"/>
                </a:solidFill>
                <a:latin typeface="Times New Roman"/>
                <a:ea typeface="Zapf Dingbats"/>
              </a:rPr>
              <a:t> -</a:t>
            </a: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 ank   You  Lord !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(to finish)  Yeahhhh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, music inspired by La Bamb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1993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35:18Z</dcterms:modified>
  <cp:revision>16</cp:revision>
  <dc:subject/>
  <dc:title>Slide 1</dc:title>
</cp:coreProperties>
</file>