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816-02E7-448C-A94E-E9C8B1C6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D01-B6A4-41B8-AE77-1C18B658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4FE-2ED4-470C-A07B-574E5EA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3A8-776D-4240-98E4-5A5765E4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357-A091-4790-8E84-7DE1507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895-5E22-454A-8DFC-50FDC0A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F0E-93E9-4CBE-96EE-AA9EDAF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E0E-712F-4809-B9D0-12EAA2C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A4A-6C9E-43D0-A691-B06E04A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E9B-A05E-4A20-AAD5-BD90802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C9A-3384-43F7-8783-B5E987CD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760-37AA-49D8-B152-9181C58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15E2-F5F2-4029-ADC6-FD749F67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8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4ca13"/>
                </a:solidFill>
                <a:uFillTx/>
                <a:latin typeface="Times New Roman"/>
              </a:rPr>
              <a:t>Thank You Lord for Giving us this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ank You Lord for giving us this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ank You Lord, It’s gonna be so good   (Oh Ye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ank You Lord for giving us this food,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Bless it to our bodies, O Lord we p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um yum yum yum yum     (yum y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um yum yum yum yum     (yum y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um yum yum yum y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h Yeah, it’s gonna be gonna b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um yum yum yum yum     (yum y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Yum yum yum yum yum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Bless it to our bodies O Lord we p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41:28Z</dcterms:modified>
  <cp:revision>22</cp:revision>
  <dc:subject/>
  <dc:title>Slide 1</dc:title>
</cp:coreProperties>
</file>