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028-C1BF-4919-8040-4A50F322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317-C988-4503-B597-529E75CE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B01-4877-4AEA-A330-D43F9198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35F-04B0-4DE6-AAF3-5AC63FBE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9DB-DCAA-4C32-80D2-785D18FE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7A5-980B-4253-9C82-A69221ED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D04-C243-4D23-80E6-D8C694E0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2DA-4760-4F3C-A2A4-85C196FD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9D8-8112-4AAE-AB64-6CCA2ADF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F2C-8124-444C-A8AC-F277278C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158-BAF4-4F0C-A16D-452ECB8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B38-1539-45F3-AE41-4591AAC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5CA6-210F-402B-98A1-1D884006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76320"/>
            <a:ext cx="7272360" cy="60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4ca13"/>
                </a:solidFill>
                <a:uFillTx/>
                <a:latin typeface="Times New Roman"/>
              </a:rPr>
              <a:t>I Am the Way - John 14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Jesus said to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I am the Way, the Truth and th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No-one comes to the Father except through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(rep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John fourteen verse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Times New Roman"/>
              </a:rPr>
              <a:t>John fourteen verse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©2006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70976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25:45Z</dcterms:modified>
  <cp:revision>33</cp:revision>
  <dc:subject/>
  <dc:title>Slide 1</dc:title>
</cp:coreProperties>
</file>