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44A-A4F5-4748-AEDD-B3492507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D1D2-D1F3-49A9-8B74-6075DB28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717-B34D-4C2D-8377-63FA057B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74F6-37C8-4BB7-9747-97C1D47E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7D42-AC02-4E5F-8CA6-1E8655BB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A52-6237-41BD-B992-6AD2FDBA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F3A9-17E3-4D78-B553-FA07061A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87E-CBA8-4640-840B-4C3298B5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68B-0F49-440B-832B-5D9458DB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CAE1-BE8B-4FAE-B173-F768B932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9F3B-4C56-4D65-BE59-A25CB278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00A-C20F-4162-A348-A622FC85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a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a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a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a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a1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4ca1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4ca1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4ca1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ca1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4ca1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ca1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4ca1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4B44-C211-4475-BDC0-555A9DEC8416}" type="slidenum">
              <a:rPr b="0" lang="en-US" sz="1400" spc="-1" strike="noStrike">
                <a:solidFill>
                  <a:srgbClr val="f4ca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4ca13"/>
                </a:solidFill>
                <a:uFillTx/>
                <a:latin typeface="Arial"/>
              </a:rPr>
              <a:t>Jesus is the Way</a:t>
            </a: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Jesus is the Way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Jesus is the Truth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Jesus is the Life, the life for me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Jesus is the Way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Jesus is the Truth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And Jesus is the Life,  for me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320" y="990720"/>
            <a:ext cx="91440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I’m sick of living the devil’s way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He only rips me off when I do what he says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His standards for living just aren’t reliable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I’m gonna follow God’s handbook the Bible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ca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ca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ca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ca1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Arial"/>
              </a:rPr>
              <a:t>by  Rick Stokes</a:t>
            </a:r>
            <a:endParaRPr b="0" lang="en-US" sz="10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Arial"/>
                <a:ea typeface="Arial"/>
              </a:rPr>
              <a:t>©</a:t>
            </a:r>
            <a:r>
              <a:rPr b="0" i="1" lang="en-US" sz="1000" spc="-1" strike="noStrike">
                <a:solidFill>
                  <a:srgbClr val="f4ca13"/>
                </a:solidFill>
                <a:latin typeface="Arial"/>
              </a:rPr>
              <a:t>1993 BOOTSINALL MUSIC</a:t>
            </a:r>
            <a:endParaRPr b="0" lang="en-US" sz="10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Arial"/>
              </a:rPr>
              <a:t>CCLI # </a:t>
            </a:r>
            <a:r>
              <a:rPr b="0" i="1" lang="en-AU" sz="1000" spc="-1" strike="noStrike">
                <a:solidFill>
                  <a:srgbClr val="f4ca13"/>
                </a:solidFill>
                <a:latin typeface="Arial"/>
              </a:rPr>
              <a:t>7097633</a:t>
            </a:r>
            <a:endParaRPr b="0" lang="en-US" sz="1000" spc="-1" strike="noStrike">
              <a:solidFill>
                <a:srgbClr val="f4ca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29:35Z</dcterms:modified>
  <cp:revision>8</cp:revision>
  <dc:subject/>
  <dc:title>Slide 1</dc:title>
</cp:coreProperties>
</file>