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B0EA-D674-49E5-8667-A97320085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BACE-9D4E-4A04-B4EE-A8C20BB8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FAB6-6E17-4875-AAED-F4BD31E94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5A4A-51EF-40CD-86EB-8F4658F97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BF51-A3F0-436D-AC2B-7AFF8883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DBD6-E48F-45EA-9C3E-20A481D5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7114-3205-4D73-97C7-97FB3FBB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3526-4EC7-4A30-9DD8-78810406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CD51-0FC3-4FD2-BEB0-8C4BDC31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64A8-C5DD-4BAD-87E9-B54A8C94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19B0-A7B7-4130-BE5A-20C665E5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E4E3-7587-46CE-93EB-5291539E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3893-5230-46A5-AD1F-B58F0CBAA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12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8604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52280"/>
            <a:ext cx="727236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f4ca13"/>
                </a:solidFill>
                <a:uFillTx/>
                <a:latin typeface="Times New Roman"/>
              </a:rPr>
              <a:t>Let No Corrupt Communication - Ephesians 4: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Times New Roman"/>
              </a:rPr>
              <a:t>Let no corrupt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Times New Roman"/>
              </a:rPr>
              <a:t>proceed out of your mout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Times New Roman"/>
              </a:rPr>
              <a:t>But that which is go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Times New Roman"/>
              </a:rPr>
              <a:t>To the use of edifyin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Times New Roman"/>
              </a:rPr>
              <a:t>(to the use of edifyin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Times New Roman"/>
              </a:rPr>
              <a:t>That it may minister gr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f4ca13"/>
                </a:solidFill>
                <a:latin typeface="Times New Roman"/>
              </a:rPr>
              <a:t>(that it may minister gr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Times New Roman"/>
              </a:rPr>
              <a:t>Unto the hea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Times New Roman"/>
              </a:rPr>
              <a:t>Ephesians four twenty n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4ca13"/>
                </a:solidFill>
                <a:latin typeface="Times New Roman"/>
              </a:rPr>
              <a:t>By Rick Stok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4ca13"/>
                </a:solidFill>
                <a:latin typeface="Times New Roman"/>
              </a:rPr>
              <a:t>©2010 Bootsinall Mus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4ca13"/>
                </a:solidFill>
                <a:latin typeface="Times New Roman"/>
              </a:rPr>
              <a:t>CCLI #70976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07:23:10Z</dcterms:created>
  <dc:creator>Rick Stokes</dc:creator>
  <dc:description/>
  <dc:language>en-US</dc:language>
  <cp:lastModifiedBy>Rick Stokes</cp:lastModifiedBy>
  <dcterms:modified xsi:type="dcterms:W3CDTF">2017-09-29T04:36:12Z</dcterms:modified>
  <cp:revision>18</cp:revision>
  <dc:subject/>
  <dc:title>Slide 1</dc:title>
</cp:coreProperties>
</file>