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6ED-9994-445E-9259-17AD31E6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AB6-B218-4417-A32D-94BD8B9A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037-FD45-449C-9267-B69E9313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70F-7C02-461E-AE08-ADDF4066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7AB-E707-44BE-9AE3-D96E7CF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FB5-2849-42A6-92E7-70847855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FE4-4ECC-4492-840F-324062B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22E-234D-46B0-A3DF-5727AFE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40B-239B-41D1-B1D2-A987A3E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8DB-659B-41A4-8ADB-29E9E51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87A-FA7B-404E-BD87-6A802DF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B1C-DEA2-46FE-B0DE-3BAC880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E4B-E32B-481F-878D-4EF2BA69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8600"/>
            <a:ext cx="72723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4ca13"/>
                </a:solidFill>
                <a:uFillTx/>
                <a:latin typeface="Times New Roman"/>
              </a:rPr>
              <a:t>If We Confess Our Sins – 1John 1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If we confess our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e is faithful and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o forgive us our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And to cleanse us from all un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If we confess our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e is faithful and j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o forgive us our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And to cleanse us from all un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One John one 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4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7:19Z</dcterms:modified>
  <cp:revision>38</cp:revision>
  <dc:subject/>
  <dc:title>Slide 1</dc:title>
</cp:coreProperties>
</file>