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4D7-76F5-4D14-B2BF-B5213FE1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A51-41B3-47AF-A881-8716C438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264-8CA5-41C3-B93A-097BAE19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4BA-79F8-47B4-9237-CB2E7EFF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B4F7-9A49-446C-8825-7BEB5E7C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01B-969E-495C-ABA3-5F864A06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272-0F28-47CF-A79A-3642C2D7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00D-F4AA-4548-89B0-264D4FA3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97C-14BB-4F5E-BCB3-0DD55F86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779-2D54-4C3F-8FBA-A9CF4079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75D-A6C4-4FB7-A8E6-8F93BF1F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82C-C25B-4AA4-81F6-C65ED19D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FC4D-B35C-4C5D-A187-E40939E6D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52280"/>
            <a:ext cx="727236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4ca13"/>
                </a:solidFill>
                <a:uFillTx/>
                <a:latin typeface="Times New Roman"/>
              </a:rPr>
              <a:t>Thy Word – Psalm 119: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Thy Word is a lamp unto my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And a light unto my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Thy Word is a lamp unto my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And a light unto my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4ca13"/>
                </a:solidFill>
                <a:latin typeface="Times New Roman"/>
              </a:rPr>
              <a:t>(repe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And a light unto my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©2006 Bootsinall Mu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70976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42:55Z</dcterms:modified>
  <cp:revision>26</cp:revision>
  <dc:subject/>
  <dc:title>Slide 1</dc:title>
</cp:coreProperties>
</file>