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861-23FE-4007-9B4B-878E7A95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B5D-C67B-4F17-B3BA-5973012B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593-4A66-4C70-9D0B-6CEC8626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1C6-0EC6-458A-8A2B-0D027142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9A9-2FEC-4478-AE8A-F5C46574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F72-1EC4-4747-B988-F0AF7BAD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6BE-EEE9-4D17-A869-4DA9082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350-4278-4CC8-B229-8179689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3F0-7F73-4E2D-99F1-D9EC9761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D25-CA95-4F73-813D-309E4C61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766-908A-4527-97A4-49C4841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B36-5410-4413-BBBC-4EC160A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986A-90C1-4C78-866E-045197F0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76320"/>
            <a:ext cx="72723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4ca13"/>
                </a:solidFill>
                <a:uFillTx/>
                <a:latin typeface="Times New Roman"/>
              </a:rPr>
              <a:t>You Shall Love – Matthew 22:37-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ou shall love the Lord your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With all your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With all your soul and with all your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is is the first and great comma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nd the second is lik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ou shall love your neighbour as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n these two command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hang all the law and the prophets, hmm h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Matthew twenty two, thirty seven, to forty, that's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Matthew twenty two, thirty seven, through to fo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Say it one more time, Matthew twenty two, thirty sev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rough to fo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Hm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Music 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  <a:ea typeface="ヒラギノ角ゴ ProN W3"/>
              </a:rPr>
              <a:t>©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005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4T05:51:34Z</dcterms:modified>
  <cp:revision>28</cp:revision>
  <dc:subject/>
  <dc:title>Slide 1</dc:title>
</cp:coreProperties>
</file>