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Arial"/>
              </a:rPr>
              <a:t>Click to move the slide</a:t>
            </a:r>
            <a:endParaRPr b="0" lang="en-US" sz="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1321CA-7C03-4F61-BA8D-C29AC612D1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BDD0-1F35-4F3D-B57C-59F467426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6673680"/>
            <a:ext cx="266544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256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501720"/>
            <a:ext cx="914256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3F52-F8BC-44D3-B43A-37B3D2247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6673680"/>
            <a:ext cx="266544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0"/>
            <a:ext cx="44614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040" y="0"/>
            <a:ext cx="44614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501720"/>
            <a:ext cx="44614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040" y="3501720"/>
            <a:ext cx="44614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D483-3694-4F1C-A56F-3D7E92EDC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6673680"/>
            <a:ext cx="266544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0"/>
            <a:ext cx="294372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320" y="0"/>
            <a:ext cx="294372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2640" y="0"/>
            <a:ext cx="294372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501720"/>
            <a:ext cx="294372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320" y="3501720"/>
            <a:ext cx="294372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2640" y="3501720"/>
            <a:ext cx="294372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B692-0751-480E-BAAF-BE739C5D77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6673680"/>
            <a:ext cx="266544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2560" cy="67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AEC8-4DDD-4A62-8EA9-A21298A1D2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6673680"/>
            <a:ext cx="266544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2560" cy="67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8ADD1-A3DD-45AD-8650-66DA7E948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6673680"/>
            <a:ext cx="266544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0"/>
            <a:ext cx="4461480" cy="67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040" y="0"/>
            <a:ext cx="4461480" cy="67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D931-B358-4471-89D3-AF95546C2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6673680"/>
            <a:ext cx="266544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9A34B-ADA7-44A9-BE79-36556EA74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5896080"/>
            <a:ext cx="2665440" cy="25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3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4317-F88C-4C71-9816-511354FFB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6673680"/>
            <a:ext cx="266544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0"/>
            <a:ext cx="44614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040" y="0"/>
            <a:ext cx="4461480" cy="67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501720"/>
            <a:ext cx="44614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07A9-89A0-4438-A5EB-C4166FD68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6673680"/>
            <a:ext cx="266544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0"/>
            <a:ext cx="4461480" cy="67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040" y="0"/>
            <a:ext cx="44614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040" y="3501720"/>
            <a:ext cx="44614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78532-15A0-428B-B5EC-709C594E2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6673680"/>
            <a:ext cx="266544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0"/>
            <a:ext cx="44614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040" y="0"/>
            <a:ext cx="44614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501720"/>
            <a:ext cx="914256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7D6C-E7E1-490F-B299-F47F701CF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673680"/>
            <a:ext cx="266544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9142560" cy="67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0000"/>
          </a:bodyPr>
          <a:p>
            <a:pPr marL="238680" indent="0" algn="ctr">
              <a:lnSpc>
                <a:spcPct val="93000"/>
              </a:lnSpc>
              <a:spcBef>
                <a:spcPts val="3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238680" indent="-238680" algn="ctr">
              <a:lnSpc>
                <a:spcPct val="93000"/>
              </a:lnSpc>
              <a:spcBef>
                <a:spcPts val="375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lvl="2" marL="238680" indent="-238680" algn="ctr">
              <a:lnSpc>
                <a:spcPct val="93000"/>
              </a:lnSpc>
              <a:spcBef>
                <a:spcPts val="375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lvl="3" marL="238680" indent="-238680" algn="ctr">
              <a:lnSpc>
                <a:spcPct val="93000"/>
              </a:lnSpc>
              <a:spcBef>
                <a:spcPts val="375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lvl="4" marL="238680" indent="-238680" algn="ctr">
              <a:lnSpc>
                <a:spcPct val="93000"/>
              </a:lnSpc>
              <a:spcBef>
                <a:spcPts val="3750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lvl="5" marL="238680" indent="-238680" algn="ctr">
              <a:lnSpc>
                <a:spcPct val="93000"/>
              </a:lnSpc>
              <a:spcBef>
                <a:spcPts val="37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lvl="6" marL="238680" indent="-238680" algn="ctr">
              <a:lnSpc>
                <a:spcPct val="93000"/>
              </a:lnSpc>
              <a:spcBef>
                <a:spcPts val="37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66880" y="6673680"/>
            <a:ext cx="556128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8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777777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29600" y="6673680"/>
            <a:ext cx="91296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8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A6324C-B4D8-445F-9F42-18971D6129EF}" type="slidenum">
              <a:rPr b="0" lang="en-GB" sz="8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338160"/>
            <a:ext cx="26668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f4ca13"/>
                </a:solidFill>
                <a:uFillTx/>
                <a:latin typeface="Arial"/>
              </a:rPr>
              <a:t>Jesus loves me</a:t>
            </a:r>
            <a:r>
              <a:rPr b="1" i="1" lang="en-GB" sz="2800" spc="-1" strike="noStrike">
                <a:solidFill>
                  <a:srgbClr val="f4ca13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4ca13"/>
                </a:solidFill>
                <a:latin typeface="Arial"/>
              </a:rPr>
              <a:t>Jesus loves me, this I know</a:t>
            </a:r>
            <a:br>
              <a:rPr sz="2800"/>
            </a:br>
            <a:r>
              <a:rPr b="0" i="1" lang="en-GB" sz="2800" spc="-1" strike="noStrike">
                <a:solidFill>
                  <a:srgbClr val="f4ca13"/>
                </a:solidFill>
                <a:latin typeface="Arial"/>
              </a:rPr>
              <a:t>For the Bible tells me so</a:t>
            </a:r>
            <a:br>
              <a:rPr sz="2800"/>
            </a:br>
            <a:r>
              <a:rPr b="0" i="1" lang="en-GB" sz="2800" spc="-1" strike="noStrike">
                <a:solidFill>
                  <a:srgbClr val="f4ca13"/>
                </a:solidFill>
                <a:latin typeface="Arial"/>
              </a:rPr>
              <a:t>Little ones to Him belong</a:t>
            </a:r>
            <a:br>
              <a:rPr sz="2800"/>
            </a:br>
            <a:r>
              <a:rPr b="0" i="1" lang="en-GB" sz="2800" spc="-1" strike="noStrike">
                <a:solidFill>
                  <a:srgbClr val="f4ca13"/>
                </a:solidFill>
                <a:latin typeface="Arial"/>
              </a:rPr>
              <a:t>They are weak, but He is strong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ds and Music by William B. Bradbury and Anna B. Warner; © Public Domai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306480"/>
            <a:ext cx="26668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4ca13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f4ca13"/>
                </a:solidFill>
                <a:latin typeface="Arial"/>
              </a:rPr>
              <a:t>Yes, Jesus loves me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4ca13"/>
                </a:solidFill>
                <a:latin typeface="Arial"/>
              </a:rPr>
              <a:t>Yes, Jesus loves me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4ca13"/>
                </a:solidFill>
                <a:latin typeface="Arial"/>
              </a:rPr>
              <a:t>Yes, Jesus loves me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4ca13"/>
                </a:solidFill>
                <a:latin typeface="Arial"/>
              </a:rPr>
              <a:t>The Bible tells me so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ds and Music by William B. Bradbury and Anna B. Warner; © Public Domai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306480"/>
            <a:ext cx="26668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4ca13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f4ca13"/>
                </a:solidFill>
                <a:latin typeface="Arial"/>
              </a:rPr>
              <a:t>Jesus loves me</a:t>
            </a:r>
            <a:br>
              <a:rPr sz="2800"/>
            </a:br>
            <a:r>
              <a:rPr b="0" i="1" lang="en-US" sz="2800" spc="-1" strike="noStrike">
                <a:solidFill>
                  <a:srgbClr val="f4ca13"/>
                </a:solidFill>
                <a:latin typeface="Arial"/>
              </a:rPr>
              <a:t>He who died</a:t>
            </a:r>
            <a:br>
              <a:rPr sz="2800"/>
            </a:br>
            <a:r>
              <a:rPr b="0" i="1" lang="en-US" sz="2800" spc="-1" strike="noStrike">
                <a:solidFill>
                  <a:srgbClr val="f4ca13"/>
                </a:solidFill>
                <a:latin typeface="Arial"/>
              </a:rPr>
              <a:t>  Heaven's gate to open wide</a:t>
            </a:r>
            <a:br>
              <a:rPr sz="2800"/>
            </a:br>
            <a:r>
              <a:rPr b="0" i="1" lang="en-US" sz="2800" spc="-1" strike="noStrike">
                <a:solidFill>
                  <a:srgbClr val="f4ca13"/>
                </a:solidFill>
                <a:latin typeface="Arial"/>
              </a:rPr>
              <a:t>He has washed away my sin</a:t>
            </a:r>
            <a:br>
              <a:rPr sz="2800"/>
            </a:br>
            <a:r>
              <a:rPr b="0" i="1" lang="en-US" sz="2800" spc="-1" strike="noStrike">
                <a:solidFill>
                  <a:srgbClr val="f4ca13"/>
                </a:solidFill>
                <a:latin typeface="Arial"/>
              </a:rPr>
              <a:t>And let His little child come in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ds and Music by William B. Bradbury and Anna B. Warner; © Public Domai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rryl Schott</dc:creator>
  <dc:description/>
  <dc:language>en-US</dc:language>
  <cp:lastModifiedBy>Rick Stokes</cp:lastModifiedBy>
  <dcterms:modified xsi:type="dcterms:W3CDTF">2017-09-29T04:33:08Z</dcterms:modified>
  <cp:revision>2</cp:revision>
  <dc:subject/>
  <dc:title>A Mighty Fortress is Our God</dc:title>
</cp:coreProperties>
</file>