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A64-96C5-4318-9778-3C3041C6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990-72C1-4CA3-A6A1-CE582E3F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DBB-8252-453C-9A89-C6337B00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1C2-C376-47EE-BAFE-918F08C8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B80-6455-4A87-AABE-3DB29C9E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9AA-9521-409E-91A4-EBFFEEB4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A0F-72D6-4D99-B1EA-7697B627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916-1324-41E4-901A-8C35321B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B8E-67D8-4335-A992-1BD12A97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0C2-E813-4ECC-8017-C7AF1FBD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D2A-8721-4898-980D-E3EC77D3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EC1-E5F9-4CC6-8DE2-34164D4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AB12-ACF7-468D-878C-9CB401038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4ca13"/>
                </a:solidFill>
                <a:uFillTx/>
                <a:latin typeface="Times New Roman"/>
              </a:rPr>
              <a:t>Nu Test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Matthew Mark Luke J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Acts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One and two Corinth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Galatians Ephesians Philippians Coloss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One and two Thessalon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One and two Timothy, Titus Phile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Hebrews James, one and two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One John two John Three John J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Rev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These are the books of the New Testa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A very good book inde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So get your Bible off the sh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And you’d better start to read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2006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40:45Z</dcterms:modified>
  <cp:revision>20</cp:revision>
  <dc:subject/>
  <dc:title>Slide 1</dc:title>
</cp:coreProperties>
</file>