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8A7A-C5BF-4A1A-9ED5-65D99B41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5A1D-3AF2-4A60-885F-F016B125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00FB-B9C6-4777-BD2F-90CB7761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8409-1CB0-4D3A-8B12-2570B7F1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D3CF-4A0B-4F24-A7F1-AFC9043A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F2D3-A99C-488D-8805-A18122A4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852D-0475-481B-A25F-360C556E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3CCC-F9E7-4889-999B-071A108D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929B-CC58-497C-9AF2-4F83969E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E461-7D33-4025-AED4-7755159C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D6A7-4430-4A46-AC94-5FED6893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797E-8317-4186-AF35-1F270F46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7BFE-CCEF-4C19-BCAE-0AD3D9C5B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8604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304920"/>
            <a:ext cx="727236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f4ca13"/>
                </a:solidFill>
                <a:uFillTx/>
                <a:latin typeface="Times New Roman"/>
              </a:rPr>
              <a:t>Casting All </a:t>
            </a:r>
            <a:r>
              <a:rPr b="0" lang="en-AU" sz="2800" spc="-1" strike="noStrike" u="sng">
                <a:solidFill>
                  <a:srgbClr val="f4ca13"/>
                </a:solidFill>
                <a:uFillTx/>
                <a:latin typeface="Times New Roman"/>
              </a:rPr>
              <a:t>Y</a:t>
            </a:r>
            <a:r>
              <a:rPr b="0" lang="en-AU" sz="2400" spc="-1" strike="noStrike" u="sng">
                <a:solidFill>
                  <a:srgbClr val="f4ca13"/>
                </a:solidFill>
                <a:uFillTx/>
                <a:latin typeface="Times New Roman"/>
              </a:rPr>
              <a:t>our Care Upon Him – 1 Peter 5: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Times New Roman"/>
              </a:rPr>
              <a:t>Casting all your care upon 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Times New Roman"/>
              </a:rPr>
              <a:t>For He cares for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Times New Roman"/>
              </a:rPr>
              <a:t>Casting all your care upon 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Times New Roman"/>
              </a:rPr>
              <a:t>For He cares for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Times New Roman"/>
              </a:rPr>
              <a:t>First Peter five verse s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Times New Roman"/>
              </a:rPr>
              <a:t>First Peter five verse s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Times New Roman"/>
              </a:rPr>
              <a:t>Casting all your care upon 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Times New Roman"/>
              </a:rPr>
              <a:t>For He cares for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f4ca13"/>
                </a:solidFill>
                <a:latin typeface="Times New Roman"/>
              </a:rPr>
              <a:t>By Rick St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f4ca13"/>
                </a:solidFill>
                <a:latin typeface="Times New Roman"/>
              </a:rPr>
              <a:t>©2006 Bootsinall Mus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f4ca13"/>
                </a:solidFill>
                <a:latin typeface="Times New Roman"/>
              </a:rPr>
              <a:t>CCLI #70976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17-09-29T04:24:49Z</dcterms:modified>
  <cp:revision>40</cp:revision>
  <dc:subject/>
  <dc:title>Slide 1</dc:title>
</cp:coreProperties>
</file>