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CFD-D1BD-4BCA-A3DF-EB3B09D5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173-E04C-4EDB-B474-E7483968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257-D283-49D6-80C4-E9C3A6D1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82E-B516-4238-ACEB-84ED81C6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755-DFCC-4AAE-9A54-103315FC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046-365C-421D-B25B-303E044D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505-802D-4A53-ACD7-C161EE3B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2BE-06C4-4DC1-B86A-5EF99363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DC4-A67B-4225-8B3E-436248A9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44F-0105-456F-9EDA-3F7CD44B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956-22E2-4D34-AC7E-76EB7B38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7CC-A49C-4F38-8C4C-B0508163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3FB3-B2DC-459E-9004-783C502B4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76320"/>
            <a:ext cx="7272360" cy="84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4ca13"/>
                </a:solidFill>
                <a:uFillTx/>
                <a:latin typeface="Times New Roman"/>
              </a:rPr>
              <a:t>With Men it is Impossible – Mark 10: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With men it is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But not with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For with God all things a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With men it is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But not with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For with God all things a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Mark ten twenty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Mark ten twenty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Mark ten twenty seven  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Mark ten twenty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Mark ten twenty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Mark ten twenty seven  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©2005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70976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43:18Z</dcterms:modified>
  <cp:revision>28</cp:revision>
  <dc:subject/>
  <dc:title>Slide 1</dc:title>
</cp:coreProperties>
</file>