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4ED-C75A-4834-B25A-27F54EF0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6E1-DCA4-4F48-8102-D41D50F7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6B0-48B0-4550-8CAA-781EE6EE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CF18-96AA-47A3-BAB7-1C20E389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80D-56B6-4353-BDC9-BB3812F7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CFA-5036-435F-9435-7DB2543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661-4833-452F-AA47-D116F92A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47D-F51A-409B-AEE9-7C06B298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64BF-0509-4ED3-B56D-707D02A3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8F2-3411-4EA0-8C15-07F90846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E36-A548-419E-B993-8C2F8B0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384-46A3-4CE4-BAC8-1905097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0D66-3F23-46AD-8336-390FDA5C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609480"/>
            <a:ext cx="7272360" cy="53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4ca13"/>
                </a:solidFill>
                <a:uFillTx/>
                <a:latin typeface="Times New Roman"/>
              </a:rPr>
              <a:t>By Whose Stripes – 1 Peter 2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Jesus Himself, bore our s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In His own body, on the 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That we, having died to s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Might live to righteous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By Whose stripes you were hea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By Whose stripes you were healed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4ca13"/>
                </a:solidFill>
                <a:latin typeface="Times New Roman"/>
              </a:rPr>
              <a:t>(Repea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52280"/>
            <a:ext cx="727236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4ca13"/>
                </a:solidFill>
                <a:uFillTx/>
                <a:latin typeface="Times New Roman"/>
              </a:rPr>
              <a:t>By Whose Stripes – 1 Peter 2: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First Peter two, twenty f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First Peter two, twenty f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First Peter two, twenty f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First Peter two, twenty f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By Whose stripes you were hea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4ca13"/>
                </a:solidFill>
                <a:latin typeface="Times New Roman"/>
              </a:rPr>
              <a:t>By Whose stripes you were hea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07:16Z</dcterms:modified>
  <cp:revision>20</cp:revision>
  <dc:subject/>
  <dc:title>Slide 1</dc:title>
</cp:coreProperties>
</file>