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870F-D902-4602-A66B-0B2F3B346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E200-9C9C-46B6-B2DB-5F0CCF07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4251-B517-432D-8B30-33AAA7DA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ACB5-ED36-4A4D-A18F-7A9731DEB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4B01-0130-48B4-A49D-ACB9201B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F9D2-3B8A-4A9A-895D-BC2757E7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9616-A37A-49AA-9804-D49602AE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5537-1B4C-4E63-A12A-EE2D2CAE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0E34-685D-4E0B-A75B-4882891B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6B71-FA52-436C-A443-B6169875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16F1-5F1C-41FD-9E86-A8C81CFE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D2CA-E911-4140-B072-24706EB8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270F-64FE-45A9-85DD-7F72167CB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8604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76320"/>
            <a:ext cx="750096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4ca13"/>
                </a:solidFill>
                <a:uFillTx/>
                <a:latin typeface="Arial"/>
              </a:rPr>
              <a:t>The Fruit of the Spirit – Galatians 5:22,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Arial"/>
              </a:rPr>
              <a:t>But the fruit of the Spirit is love joy pea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Arial"/>
              </a:rPr>
              <a:t>Patience gentleness, goo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Arial"/>
              </a:rPr>
              <a:t>Faith, meekness and sel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Arial"/>
              </a:rPr>
              <a:t>Against such there is no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Arial"/>
              </a:rPr>
              <a:t>Galatians five, twenty two and twenty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Arial"/>
              </a:rPr>
              <a:t>Galatians five, twenty two and twenty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Arial"/>
              </a:rPr>
              <a:t>But the Fruit of the Spirit is love joy pea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Arial"/>
              </a:rPr>
              <a:t>Patience gentleness, goo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Arial"/>
              </a:rPr>
              <a:t>Faith, meekness and sel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Arial"/>
              </a:rPr>
              <a:t>These are the fruit of the Spi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Arial"/>
              </a:rPr>
              <a:t>By Rick St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Symbol"/>
                <a:ea typeface="Symbol"/>
              </a:rPr>
              <a:t></a:t>
            </a:r>
            <a:r>
              <a:rPr b="0" i="1" lang="en-US" sz="1000" spc="-1" strike="noStrike">
                <a:solidFill>
                  <a:srgbClr val="f4ca13"/>
                </a:solidFill>
                <a:latin typeface="Arial"/>
              </a:rPr>
              <a:t>2006 Bootsinall Mus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CCLI #</a:t>
            </a:r>
            <a:r>
              <a:rPr b="0" i="1" lang="en-AU" sz="1000" spc="-1" strike="noStrike">
                <a:solidFill>
                  <a:srgbClr val="f4ca13"/>
                </a:solidFill>
                <a:latin typeface="Times New Roman"/>
              </a:rPr>
              <a:t>70976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17-09-29T04:21:20Z</dcterms:modified>
  <cp:revision>8</cp:revision>
  <dc:subject/>
  <dc:title>Slide 1</dc:title>
</cp:coreProperties>
</file>