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BDFE-65E6-4817-8B71-45AEB24A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F11-7373-457F-9289-F12C0342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3FD-8A3F-4499-BAD7-DD49714B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D8F3-5889-47BD-AE1C-6DBF5542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14C-302A-4BA9-87D1-DBC775DB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BEF0-459D-4980-B17F-886D766B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62AD-3EAB-4B50-BDD1-E4576007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956C-1D83-4E59-98B3-15092906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D43C-D842-4182-B9D1-A20F33C9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739F-8D96-494B-9D78-5473FA6A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EA23-C29E-4873-A18B-BE242E63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36DF-1C1B-4130-873E-7B0C4EA2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EA82-5699-4D34-A206-7797A218B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40600" y="593280"/>
            <a:ext cx="746388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Arial"/>
              </a:rPr>
              <a:t>Romans 8: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Arial"/>
              </a:rPr>
              <a:t>And we know that all things work together for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Arial"/>
              </a:rPr>
              <a:t>To those who love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Arial"/>
              </a:rPr>
              <a:t>To those who are the called, according to Hi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Arial"/>
              </a:rPr>
              <a:t>And we know that all things work together for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Arial"/>
              </a:rPr>
              <a:t>To those who love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Arial"/>
              </a:rPr>
              <a:t>To those who are the called, according to Hi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Arial"/>
              </a:rPr>
              <a:t>Romans eight verse twenty eight, oh ye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ca13"/>
                </a:solidFill>
                <a:latin typeface="Arial"/>
              </a:rPr>
              <a:t>Romans eight verse twenty 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Arial"/>
              </a:rPr>
              <a:t>By Rick St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Arial"/>
              </a:rPr>
              <a:t>2006 Bootsinall Mus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</a:t>
            </a: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70976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9:12:56Z</dcterms:created>
  <dc:creator>Rick Stokes</dc:creator>
  <dc:description/>
  <dc:language>en-US</dc:language>
  <cp:lastModifiedBy>Rick Stokes</cp:lastModifiedBy>
  <dcterms:modified xsi:type="dcterms:W3CDTF">2017-09-24T05:18:05Z</dcterms:modified>
  <cp:revision>4</cp:revision>
  <dc:subject/>
  <dc:title>Slide 1</dc:title>
</cp:coreProperties>
</file>