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EF4-0BB8-437F-9829-CFDD36CE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5BF9-4030-4DDC-A02E-8F21C705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3EE8-0B90-4D5B-8377-7010406A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47D-82B2-4DE9-AE09-A44224019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78D1-A38B-430A-A3B0-346280AE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FAE8-E340-4BD9-AAB1-1B52C422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B954-BFE3-4783-BF46-0CB85A04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F58A-AEAC-4101-9DB5-FB56EE74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4CEA-1D46-4006-868A-A3DC13CB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8AE7-4850-4DA6-AE4B-BD0022DF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C2CD-9058-48C4-A5C8-EDAE1066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BBE0-50EA-492F-9E3F-BEA3956B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C3BC-8706-4220-9779-AC4D1F80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8953-5D56-45B1-A5E5-5956599B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DE44-8B24-4484-B330-E4D9ECA1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669D-D79D-46F8-9368-585F4304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525E-909A-4DFA-839C-3606ED80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1663-6002-4862-BA24-4833C216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4A0-F382-40E3-9F9B-DBC231D2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A4B3-F57A-49D6-850B-AF7E6683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6CD9-E273-4AD7-9D91-0DEF7715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711F-6CA2-49A3-8B3C-0EDC565B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30FA-E246-4089-A956-8CD20444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232-B170-41E3-AEE0-838020A4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BF6D-D9DA-4534-AF22-CAA810B2012A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F3B1-EF1E-426E-A10D-8084CDD39998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21080" y="983520"/>
            <a:ext cx="7703280" cy="48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John 15:12 - This is My command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My commandment that you love one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I have loved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My commandment that you love one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I have loved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hn fifteen verse twe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ohn fifteen verse twelve s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My commandment that you love one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I have loved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By Rick Stok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006 Bootsinall Musi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CCLI #</a:t>
            </a:r>
            <a:r>
              <a:rPr b="0" i="1" lang="en-AU" sz="1000" spc="-1" strike="noStrike">
                <a:solidFill>
                  <a:srgbClr val="ffffff"/>
                </a:solidFill>
                <a:latin typeface="Times New Roman"/>
              </a:rPr>
              <a:t>70976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06:07:54Z</dcterms:created>
  <dc:creator>Rick Stokes</dc:creator>
  <dc:description/>
  <dc:language>en-US</dc:language>
  <cp:lastModifiedBy>Rick Stokes</cp:lastModifiedBy>
  <dcterms:modified xsi:type="dcterms:W3CDTF">2017-09-24T05:01:08Z</dcterms:modified>
  <cp:revision>2</cp:revision>
  <dc:subject/>
  <dc:title>Slide 1</dc:title>
</cp:coreProperties>
</file>