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AD4-9B64-4D3B-BDF3-F476857F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54B-A923-4FBE-89B3-432F6E79D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EF5-CDD7-4FFB-A0B5-86C200ED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DB64-1013-480C-9468-E18E204DE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27D-39D5-4737-B386-CB27D059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434-EA6D-4C25-8946-21B80A74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860-A724-4A60-8F4D-F6520629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EDD-134D-4F17-BBDC-FD2057C6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816-2D41-460C-A691-3FD89488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53D-641C-4169-BF79-395EF4BD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C591-2B5A-4D20-8DD2-4190D9B9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68B-AFD3-4128-9A3C-23610CC7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3BB0-9EC0-495F-B6A6-39A8E2F5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79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4ca13"/>
                </a:solidFill>
                <a:uFillTx/>
                <a:latin typeface="Times New Roman"/>
              </a:rPr>
              <a:t>Weapons - 2 Corinthians 10:3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For though we walk in the fles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We do not war according to the fl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For the weapons of our warfare are not ca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But mighty in God for pulling down stronghol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Casting down arguments, and every high 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That exalts itself against the knowledge of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Bringing every th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Into captivit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To the obedience of Ch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Second Corinthians ten verses three to 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(it is writte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006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cc00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cc00"/>
                </a:solidFill>
                <a:latin typeface="Times New Roman"/>
              </a:rPr>
              <a:t>             </a:t>
            </a:r>
            <a:r>
              <a:rPr b="0" i="1" lang="en-US" sz="1000" spc="-1" strike="noStrike">
                <a:solidFill>
                  <a:srgbClr val="99cc00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99cc00"/>
                </a:solidFill>
                <a:latin typeface="Times New Roman"/>
              </a:rPr>
              <a:t>2004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23:31Z</dcterms:modified>
  <cp:revision>15</cp:revision>
  <dc:subject/>
  <dc:title>Slide 1</dc:title>
</cp:coreProperties>
</file>