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746-70DD-4A53-AAE5-EF303557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386-5A39-4B71-9059-AB162197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0BA7-CB76-4D74-8037-FDA38B499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F43C-6CD7-4B85-B4C6-39688D4CB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0B6-4AC0-42EC-9E0B-AD4EC667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6DB-7635-444F-ADBD-85CADEC7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71D-0050-49F0-A5A5-37343484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B923-2E47-48D0-B939-E8A1758D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A6E-22F8-4E9E-B16E-D28FB25F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4A8-F760-4ACE-8328-018D9F36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594-0471-43C0-866B-98485959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A61-44CA-415F-BE58-34C60412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5431-14B5-4E00-8C68-96A2CC23E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4ca13"/>
                </a:solidFill>
                <a:uFillTx/>
                <a:latin typeface="Times New Roman"/>
              </a:rPr>
              <a:t>Jesus Christ is the Same – Hebrews 13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Jesus Christ i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Yesterday today and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Jesus Christ i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Yesterday today and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Hebrews thirteen eight 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Times New Roman"/>
              </a:rPr>
              <a:t>Hebrews thirteen 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2004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CCLI #70976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14:51Z</dcterms:modified>
  <cp:revision>18</cp:revision>
  <dc:subject/>
  <dc:title>Slide 1</dc:title>
</cp:coreProperties>
</file>