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997B-1707-4B39-8B21-9846BFA0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60F2-5E5D-4DBE-9D51-D89539CA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3C33-EA96-4EA3-AB61-0C4B2B10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385D-167E-468C-9C00-49C90C72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461-DD80-4A29-B864-61F43536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1469-2104-4440-B0E9-7064DF35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8036-580A-4297-B018-57B0EB03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D22-9D1B-45E8-A418-583C9AF2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2374-5BA3-4B44-AC5A-32524E6C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72C0-F0EA-45EB-8822-AE533061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B8FA-D681-4B8D-A06B-5E720A04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A5B6-7E0A-49C5-BEC6-30C4BD4C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1DFB-703D-4400-AA53-B99D95C07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609480"/>
            <a:ext cx="7272360" cy="56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 u="sng">
                <a:solidFill>
                  <a:srgbClr val="f4ca13"/>
                </a:solidFill>
                <a:uFillTx/>
                <a:latin typeface="Times New Roman"/>
              </a:rPr>
              <a:t>Birdies F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4ca13"/>
                </a:solidFill>
                <a:latin typeface="Times New Roman"/>
              </a:rPr>
              <a:t>Birdies fly in the 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4ca13"/>
                </a:solidFill>
                <a:latin typeface="Times New Roman"/>
              </a:rPr>
              <a:t>Singing songs, way up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4ca13"/>
                </a:solidFill>
                <a:latin typeface="Times New Roman"/>
              </a:rPr>
              <a:t>Songs of j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4ca13"/>
                </a:solidFill>
                <a:latin typeface="Times New Roman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4ca13"/>
                </a:solidFill>
                <a:latin typeface="Times New Roman"/>
              </a:rPr>
              <a:t>Birdies in the s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By Rick Stokes and Jordan Stok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Symbol"/>
                <a:ea typeface="Symbol"/>
              </a:rPr>
              <a:t></a:t>
            </a:r>
            <a:r>
              <a:rPr b="0" i="1" lang="en-US" sz="1000" spc="-1" strike="noStrike">
                <a:solidFill>
                  <a:srgbClr val="f4ca13"/>
                </a:solidFill>
                <a:latin typeface="Arial"/>
              </a:rPr>
              <a:t>2003 Bootsinall Mus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</a:t>
            </a: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70976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05:28Z</dcterms:modified>
  <cp:revision>10</cp:revision>
  <dc:subject/>
  <dc:title>Slide 1</dc:title>
</cp:coreProperties>
</file>