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774-EAC1-4093-8122-5DDC88CC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278-A3DB-4B0F-8D1C-FA6B60FB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5F6-F052-4D9C-9858-C321E0C2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F06-0FA1-4554-A972-2C61FA0E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1CD-5B6D-4409-A40B-F69CFE36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A37-CE9D-4E06-A21C-808F456C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F4D-B469-4201-A62E-E98DF25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BFF-CCC9-4E13-A7DF-BD535D7E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37B-9B74-40B0-ADE7-BE7B50A7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AA9D-2D35-4BD3-9786-6844DF9C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A0C-94C2-4961-9EFF-72B585E9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C97-DA6C-405C-8715-3822A0B3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366586-257B-4718-A689-C8698446EB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219320"/>
            <a:ext cx="9360000" cy="828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6000" y="260280"/>
            <a:ext cx="7272360" cy="70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 u="sng">
                <a:solidFill>
                  <a:srgbClr val="f4ca13"/>
                </a:solidFill>
                <a:uFillTx/>
                <a:latin typeface="Arial"/>
              </a:rPr>
              <a:t>For unto Us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For unto us a child is b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Unto us a Son is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And the government shall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Upon His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And His name shall be called Wond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Counsellor, The Mighty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The Everlasting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The Prince of 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Isaiah  nine verse 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400" spc="-1" strike="noStrike">
                <a:solidFill>
                  <a:srgbClr val="f4ca13"/>
                </a:solidFill>
                <a:latin typeface="Arial"/>
              </a:rPr>
              <a:t>Isaiah  nine verse 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Arial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Arial"/>
              </a:rPr>
              <a:t>©2004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1800" spc="-1" strike="noStrike">
                <a:solidFill>
                  <a:srgbClr val="f4ca1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cp:lastPrinted>2009-04-22T19:24:48Z</cp:lastPrinted>
  <dcterms:modified xsi:type="dcterms:W3CDTF">2017-09-29T04:13:01Z</dcterms:modified>
  <cp:revision>9</cp:revision>
  <dc:subject/>
  <dc:title>Slide 1</dc:title>
</cp:coreProperties>
</file>