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279-BFE6-4A91-AFC9-84F88CE5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B0F-6FA5-4544-95B0-28D55EC8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9E86-663C-4C79-AFCB-A67E371C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D5A-CF13-4352-A7F4-DE201B8E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225-7149-4DC2-BAB1-03770105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113-9403-4981-B6C6-7E16BFA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1BF3-0F07-4DCF-B148-0194F589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0A6-56E4-4839-944E-85A62A93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759-FB90-4696-8DF5-9DED22B4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882-BEA5-41F9-B63C-867AFE7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DA86-8C14-48CC-BD29-E84304BC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908-9BD3-4016-B785-421CEB68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7DF9-4B4F-4671-92B1-AA8009CB2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1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6040"/>
            <a:ext cx="914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52280"/>
            <a:ext cx="727236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f4ca13"/>
                </a:solidFill>
                <a:uFillTx/>
                <a:latin typeface="Arial"/>
                <a:ea typeface="Arial"/>
              </a:rPr>
              <a:t>A Man that has friends – Proverbs 18: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A man that has friends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Must show himself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A man that has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Must show himself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Proverbs eighteen twenty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It says, it is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Proverbs eighteen twenty 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4ca13"/>
                </a:solidFill>
                <a:latin typeface="Arial"/>
                <a:ea typeface="Arial"/>
              </a:rPr>
              <a:t>It says to you and 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By Rick Stokes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Symbol"/>
                <a:ea typeface="Symbol"/>
              </a:rPr>
              <a:t></a:t>
            </a: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2005 Bootsinall Mus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4ca13"/>
                </a:solidFill>
                <a:latin typeface="Times New Roman"/>
              </a:rPr>
              <a:t>CCLI #</a:t>
            </a:r>
            <a:r>
              <a:rPr b="0" i="1" lang="en-AU" sz="1000" spc="-1" strike="noStrike">
                <a:solidFill>
                  <a:srgbClr val="f4ca13"/>
                </a:solidFill>
                <a:latin typeface="Times New Roman"/>
              </a:rPr>
              <a:t>70976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3T07:23:10Z</dcterms:created>
  <dc:creator>Rick Stokes</dc:creator>
  <dc:description/>
  <dc:language>en-US</dc:language>
  <cp:lastModifiedBy>Rick Stokes</cp:lastModifiedBy>
  <dcterms:modified xsi:type="dcterms:W3CDTF">2017-09-29T04:04:13Z</dcterms:modified>
  <cp:revision>11</cp:revision>
  <dc:subject/>
  <dc:title>Slide 1</dc:title>
</cp:coreProperties>
</file>