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07C-73F9-4031-9837-6B6B8FDE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57E-2B9B-44BD-BED8-E0EB18A3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467-1BA9-4C66-BF1B-B1ED9E43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2BF-1BFB-4505-A078-96958204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701E-2205-4616-9027-6290E450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B607-A5BC-4623-ADF3-CEBCEEF4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ACC-7397-461C-A753-BD346944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B6B-B051-47A0-B15B-5A3068B2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69D-4B8E-4D91-8EBA-03AEF45F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13B1-BE8D-4F12-8EA9-7F06525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4A4-89F5-4A92-9AD3-1F73C7BD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D4B-1203-42FE-A7BC-DE4B79F1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4ca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4ca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4ca1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4ca1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4ca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4ca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4ca1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ca1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a1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ca1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4ca1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4ca1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B2C2-7846-48A9-AEC6-51FC1F349A09}" type="slidenum">
              <a:rPr b="0" lang="en-US" sz="1400" spc="-1" strike="noStrike">
                <a:solidFill>
                  <a:srgbClr val="f4ca1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4ca13"/>
                </a:solidFill>
                <a:uFillTx/>
                <a:latin typeface="Times New Roman"/>
              </a:rPr>
              <a:t>How can a Young Man - Psalm 119:9,11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How can a young man cleanse his way?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By taking heed according to Your Word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Your Word I have hidden in my heart 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That I might not sin against You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Psalm one one nine verses nine and eleven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Psalm one one nine verses nine and eleven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How can a young man cleanse his way?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Times New Roman"/>
              </a:rPr>
              <a:t>By taking heed according to Your Word</a:t>
            </a:r>
            <a:endParaRPr b="0" lang="en-US" sz="2400" spc="-1" strike="noStrike">
              <a:solidFill>
                <a:srgbClr val="f4ca1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006 Bootsinall Music</a:t>
            </a:r>
            <a:endParaRPr b="0" lang="en-US" sz="1000" spc="-1" strike="noStrike">
              <a:solidFill>
                <a:srgbClr val="f4ca1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17</a:t>
            </a:r>
            <a:endParaRPr b="0" lang="en-US" sz="1000" spc="-1" strike="noStrike">
              <a:solidFill>
                <a:srgbClr val="f4ca1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4ca1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4T05:24:39Z</dcterms:modified>
  <cp:revision>15</cp:revision>
  <dc:subject/>
  <dc:title>Slide 1</dc:title>
</cp:coreProperties>
</file>