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32F-E29A-444C-90E0-46A7E89F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FFEF-DBA7-4752-AA63-48D1B954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F48-73E1-441C-A7C5-50DF01BE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6A38-2854-43AF-9FD2-5E82BA9D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307-6299-48FA-83CC-21ADFE48C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4CF6-2F20-4CDA-BF2D-E4EA6489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63F-4C00-46C8-8DF5-449A8E0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A67-A62F-44D8-BD84-723D4988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9B2-32AE-4618-BA1E-CF60FD87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453-8A36-486E-B378-5AB3D349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3CA-B16D-452C-8F94-22ED4CA6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314-D3FD-4B79-99DA-13509738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2C82-C8A8-4C28-A021-BFAFF1AAD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3000" y="737640"/>
            <a:ext cx="7585920" cy="53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4ca13"/>
                </a:solidFill>
                <a:uFillTx/>
                <a:latin typeface="Arial"/>
              </a:rPr>
              <a:t>For God So Loved -</a:t>
            </a: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4ca13"/>
                </a:solidFill>
                <a:uFillTx/>
                <a:latin typeface="Arial"/>
              </a:rPr>
              <a:t>John 3: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4ca1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For God so loved the world that He ga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His only begotten 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That whosoever believeth in H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Should not per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But have everlasting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ca13"/>
                </a:solidFill>
                <a:latin typeface="Arial"/>
              </a:rPr>
              <a:t>John  -   three sixt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Arial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AU" sz="1000" spc="-1" strike="noStrike">
                <a:solidFill>
                  <a:srgbClr val="f4ca13"/>
                </a:solidFill>
                <a:latin typeface="Arial"/>
              </a:rPr>
              <a:t>2004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1:22:33Z</dcterms:created>
  <dc:creator>Rick Stokes</dc:creator>
  <dc:description/>
  <dc:language>en-US</dc:language>
  <cp:lastModifiedBy>Rick Stokes</cp:lastModifiedBy>
  <dcterms:modified xsi:type="dcterms:W3CDTF">2017-09-29T04:10:56Z</dcterms:modified>
  <cp:revision>3</cp:revision>
  <dc:subject/>
  <dc:title>Slide 1</dc:title>
</cp:coreProperties>
</file>