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3A3F-BFDF-4297-B7A1-BCF32AEF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C496-D7DD-4DEC-BC63-5CFC0684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42C-6BFC-4BBC-9A5D-E1A20477E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6867-D094-4DAC-B983-1F7C5C6F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600-B374-4CE9-A943-16C7653A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F1A-8EDF-4665-9476-E6B89A80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1F06-8380-4BF6-9165-92F095F9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3705-DACE-4BD9-A3D9-926EB04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DBBD-9375-4A09-A597-4FBA1EF5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EF4-9888-4D0D-97B7-13A8A483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DD05-2155-433A-B68E-2C2555B7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DFA-14AD-4DF5-83DF-490ACFAA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D52F-03DF-48C2-BDD4-A4FCFC50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62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f4ca13"/>
                </a:solidFill>
                <a:uFillTx/>
                <a:latin typeface="Times New Roman"/>
              </a:rPr>
              <a:t>Exploits – Daniel 11:3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But they that do know their G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Shall be strong and do explo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But they that do know their G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Shall be strong and do explo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But they that do know their G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Shall be strong and do explo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But they that do know their God       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Shall be strong and do explo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Daniel eleven thirty tw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Daniel eleven thirty tw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Daniel eleven thirty two it is writt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4ca13"/>
                </a:solidFill>
                <a:latin typeface="Times New Roman"/>
              </a:rPr>
              <a:t>Daniel eleven thirty two</a:t>
            </a:r>
            <a:r>
              <a:rPr b="0" lang="en-US" sz="1800" spc="-1" strike="noStrike">
                <a:solidFill>
                  <a:srgbClr val="f4ca1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6 Bootsinall Musi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08:45Z</dcterms:modified>
  <cp:revision>12</cp:revision>
  <dc:subject/>
  <dc:title>Slide 1</dc:title>
</cp:coreProperties>
</file>