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188-85DB-4F3E-A062-170488AE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EA16-10BB-468F-BEDA-0086F6AF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A80-CE5C-4336-9E07-76250E88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149-CB1D-4AE2-96D8-8AA25E119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E8D4-A0E9-469C-827C-0E5C53B2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C064-DFF3-4838-8C4F-06991F45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3DD-484D-4958-97AB-61D56D1D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FB2-2F0E-48A9-B82B-5A055B96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E284-0393-440C-9E9A-CE6B5BA6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CAE-C036-4D26-AD12-47B6B976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7D3-EA72-410B-AEA0-096E1A86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C033-A5A0-471F-94BE-3A3AF36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DEEF-DFD8-4BB5-A7C3-B453C9281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52280"/>
            <a:ext cx="7315200" cy="66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f4ca13"/>
                </a:solidFill>
                <a:uFillTx/>
                <a:latin typeface="Times New Roman"/>
              </a:rPr>
              <a:t>Faith Comes by Hearing - Romans 10: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So then faith comes by h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And hearing by the word of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So then faith comes by he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And hearing by the word of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Romans ten seventeen  (yee h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Romans ten seven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Romans ten seventeen  (yee ha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It’s written in the Word of G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2006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CCLI #70976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10:01Z</dcterms:modified>
  <cp:revision>8</cp:revision>
  <dc:subject/>
  <dc:title>Slide 1</dc:title>
</cp:coreProperties>
</file>