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FC7D-54E6-4B8D-8C64-1E2894088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2EDC-BD8A-4727-8E2C-C3F2B47F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9B16-5406-4B57-99A1-D2F1191B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E31-907B-44B9-B0DB-42D7322F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ABB5-46A1-4ACE-A061-4904C0C45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621F-468A-4F19-A9FC-67A2BE58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A706-D6E5-45DE-9D9D-E1215005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6E79-67D9-42BA-8CFA-28E80169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C4D9-FBAB-4D6E-8073-DF26573F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4A14-E9C3-485B-BCFA-3F537B0F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8C35-763D-4650-BE98-0283103E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3E98-0422-466B-8D2B-E3C636DA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A95D-FD15-4828-AB78-167D8D61E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47600"/>
            <a:ext cx="882036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f4ca13"/>
                </a:solidFill>
                <a:uFillTx/>
                <a:latin typeface="Arial"/>
              </a:rPr>
              <a:t>Let Everything that Has Breath - Psalm 150: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4ca1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Arial"/>
              </a:rPr>
              <a:t>Let everything that has breath praise the Lord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Arial"/>
              </a:rPr>
              <a:t>Let everything that has breath praise the Lord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Arial"/>
              </a:rPr>
              <a:t>Praise the 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Arial"/>
              </a:rPr>
              <a:t>Praise the 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Arial"/>
              </a:rPr>
              <a:t>Psalm one fifty verse si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Arial"/>
              </a:rPr>
              <a:t>Psalm one fifty verse six s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Arial"/>
              </a:rPr>
              <a:t>Praise the L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Arial"/>
              </a:rPr>
              <a:t>Praise the L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f4ca13"/>
                </a:solidFill>
                <a:latin typeface="Arial"/>
              </a:rPr>
              <a:t>By Rick St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f4ca13"/>
                </a:solidFill>
                <a:latin typeface="Symbol"/>
                <a:ea typeface="Symbol"/>
              </a:rPr>
              <a:t></a:t>
            </a:r>
            <a:r>
              <a:rPr b="0" i="1" lang="en-AU" sz="1000" spc="-1" strike="noStrike">
                <a:solidFill>
                  <a:srgbClr val="f4ca13"/>
                </a:solidFill>
                <a:latin typeface="Arial"/>
              </a:rPr>
              <a:t>2004 Bootsinall Mus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CCLI #</a:t>
            </a:r>
            <a:r>
              <a:rPr b="0" i="1" lang="en-AU" sz="1000" spc="-1" strike="noStrike">
                <a:solidFill>
                  <a:srgbClr val="f4ca13"/>
                </a:solidFill>
                <a:latin typeface="Times New Roman"/>
              </a:rPr>
              <a:t>70976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08:28:37Z</dcterms:created>
  <dc:creator>Rick Stokes</dc:creator>
  <dc:description/>
  <dc:language>en-US</dc:language>
  <cp:lastModifiedBy>Rick Stokes</cp:lastModifiedBy>
  <dcterms:modified xsi:type="dcterms:W3CDTF">2017-09-29T04:16:40Z</dcterms:modified>
  <cp:revision>3</cp:revision>
  <dc:subject/>
  <dc:title>Slide 1</dc:title>
</cp:coreProperties>
</file>