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B750-D0FB-42B2-A704-E4CEB0768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8A0E-EFEE-45C7-BCB3-5930D9B8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2658-D4C7-469C-A04B-E0B9661B2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DB0D-FBAF-4147-A621-8F35AB361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DEB4-72B3-4547-BD53-453A902F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6C3F-6A15-4CA7-814E-7C5EF018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EB61-A0EA-48CE-9F79-ED45070F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4F0B-CF69-47F7-8F0D-E2F34E58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7BC7-D37B-4729-ADC1-C257EEDB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5E0A-F4FA-46EF-AB44-890585A9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BF50-EE68-4F03-B2AE-B3AEC135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74EE-F870-4E9A-A7CD-BB2B2592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4CC4-59D9-4CE7-85D2-043263EBA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12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86040"/>
            <a:ext cx="91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52280"/>
            <a:ext cx="7272360" cy="59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4ca13"/>
                </a:solidFill>
                <a:uFillTx/>
                <a:latin typeface="Times New Roman"/>
              </a:rPr>
              <a:t>Out of them All - Psalm 34: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ca13"/>
                </a:solidFill>
                <a:latin typeface="Times New Roman"/>
              </a:rPr>
              <a:t>Many are the afflictions of the righte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ca13"/>
                </a:solidFill>
                <a:latin typeface="Times New Roman"/>
              </a:rPr>
              <a:t>But the Lord delivers h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ca13"/>
                </a:solidFill>
                <a:latin typeface="Times New Roman"/>
              </a:rPr>
              <a:t>Out of them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ca1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ca13"/>
                </a:solidFill>
                <a:latin typeface="Times New Roman"/>
              </a:rPr>
              <a:t>Many are the afflictions of the righte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ca13"/>
                </a:solidFill>
                <a:latin typeface="Times New Roman"/>
              </a:rPr>
              <a:t>But the Lord delivers h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ca13"/>
                </a:solidFill>
                <a:latin typeface="Times New Roman"/>
              </a:rPr>
              <a:t>Out of them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ca13"/>
                </a:solidFill>
                <a:latin typeface="Times New Roman"/>
              </a:rPr>
              <a:t>Psalm thirty four verse ninet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ca13"/>
                </a:solidFill>
                <a:latin typeface="Times New Roman"/>
              </a:rPr>
              <a:t>Psalm thirty four verse ninet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ca13"/>
                </a:solidFill>
                <a:latin typeface="Times New Roman"/>
              </a:rPr>
              <a:t>Many are the afflictions of the righte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ca13"/>
                </a:solidFill>
                <a:latin typeface="Times New Roman"/>
              </a:rPr>
              <a:t>But the Lord delivers h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ca13"/>
                </a:solidFill>
                <a:latin typeface="Times New Roman"/>
              </a:rPr>
              <a:t>Out of them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Arial"/>
              </a:rPr>
              <a:t>By Rick Stok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Symbol"/>
                <a:ea typeface="Symbol"/>
              </a:rPr>
              <a:t></a:t>
            </a:r>
            <a:r>
              <a:rPr b="0" i="1" lang="en-US" sz="1000" spc="-1" strike="noStrike">
                <a:solidFill>
                  <a:srgbClr val="f4ca13"/>
                </a:solidFill>
                <a:latin typeface="Arial"/>
              </a:rPr>
              <a:t>2006 Bootsinall Mus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CCLI #</a:t>
            </a:r>
            <a:r>
              <a:rPr b="0" i="1" lang="en-AU" sz="1000" spc="-1" strike="noStrike">
                <a:solidFill>
                  <a:srgbClr val="f4ca13"/>
                </a:solidFill>
                <a:latin typeface="Times New Roman"/>
              </a:rPr>
              <a:t>70976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07:23:10Z</dcterms:created>
  <dc:creator>Rick Stokes</dc:creator>
  <dc:description/>
  <dc:language>en-US</dc:language>
  <cp:lastModifiedBy>Rick Stokes</cp:lastModifiedBy>
  <dcterms:modified xsi:type="dcterms:W3CDTF">2017-09-29T04:17:42Z</dcterms:modified>
  <cp:revision>10</cp:revision>
  <dc:subject/>
  <dc:title>Slide 1</dc:title>
</cp:coreProperties>
</file>