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4710-D6CD-4CE4-B476-420D0A6A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5D4-26CF-4A59-B0CF-2A569682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7EB9-C00F-4C3B-9C08-9433F81C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A5AE-7D2A-4F42-B016-302550C1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E37-F385-4F8A-92ED-5A6CCC15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5DD2-831B-4449-86D7-B7F37A20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091-79C1-4044-B5B7-8724A91B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2FF-D106-4B20-B6ED-3614E0C0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BFF5-AD24-4F8D-BBB6-0C175E12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F009-6895-493D-97C7-EF9301EE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A5E0-D3B8-493F-A42B-6CD4669A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A962-BB8B-4CBB-BF8D-4D387ECF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D1F3-C9B9-41FD-A707-524E1A05E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595800"/>
            <a:ext cx="772020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58560" tIns="46800" bIns="0" anchor="ctr">
            <a:spAutoFit/>
          </a:bodyPr>
          <a:p>
            <a:pPr algn="ctr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You are the 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You are the o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y heart longs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You are the wa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nd You are the 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1205280"/>
            <a:ext cx="7720200" cy="39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58560" tIns="46800" bIns="0" anchor="ctr">
            <a:spAutoFit/>
          </a:bodyPr>
          <a:p>
            <a:pPr algn="ctr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sire of the n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You visited 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pened up my ey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nd helped me to s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4160" y="2440080"/>
            <a:ext cx="737568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58560" tIns="46800" bIns="0" anchor="ctr">
            <a:spAutoFit/>
          </a:bodyPr>
          <a:p>
            <a:pPr algn="ctr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334440"/>
            <a:ext cx="871380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llelujah, Hallel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Jesus I want more of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llelujah, Hallel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Jesus, how I love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Jesus, how I love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NZ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NZ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NZ" sz="9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ffff00"/>
                </a:solidFill>
                <a:latin typeface="Arial"/>
              </a:rPr>
              <a:t>by Rick St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© 1996 BootSinAll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CLI Song # 215066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mail: </a:t>
            </a:r>
            <a:r>
              <a:rPr b="0" lang="en-NZ" sz="1400" spc="-1" strike="noStrike">
                <a:solidFill>
                  <a:srgbClr val="ffff00"/>
                </a:solidFill>
                <a:latin typeface="Arial"/>
              </a:rPr>
              <a:t>rick@bootsinall.co.nz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NZ" sz="1400" spc="-1" strike="noStrike">
                <a:solidFill>
                  <a:srgbClr val="ffff00"/>
                </a:solidFill>
                <a:latin typeface="Arial"/>
              </a:rPr>
              <a:t>Website: www.bootsinall.co.n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8:57:18Z</dcterms:created>
  <dc:creator>Rick Stokes</dc:creator>
  <dc:description/>
  <dc:language>en-US</dc:language>
  <cp:lastModifiedBy>Rick Stokes</cp:lastModifiedBy>
  <dcterms:modified xsi:type="dcterms:W3CDTF">2006-01-10T23:38:47Z</dcterms:modified>
  <cp:revision>5</cp:revision>
  <dc:subject/>
  <dc:title>Slide 1</dc:title>
</cp:coreProperties>
</file>