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F5166A-461E-4A16-A049-7B5BCF97DF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EC6225-D8A5-4CF2-BE92-B1612FCA16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9A18DD-3D45-47B6-B50D-A05FFD7D2E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010291-53E4-428D-A2ED-FC273281C4A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F66CD0-A5E1-42CB-AED9-0690306FF56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E50CCE-D261-4DDE-B635-6A3F12FE88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0F8679-EA34-48D7-81BC-9D763E6304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BC7A19-9B87-40D5-8D28-1A2B721FFF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FF2F8-5419-4EAB-9E04-846261BCB4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FB00E2-AFED-4174-AE5B-94D2771618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C6749F-5ECC-415F-9DAB-83E0C85367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D35C50-F553-44E7-A027-686C2D89C3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221760" cy="6918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6F022-731F-4B36-B1A7-5A9213113F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-541440" y="1557360"/>
            <a:ext cx="9144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       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Here I 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In Your presence Lo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Once aga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Waiting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For Your Lo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For Your Power</a:t>
            </a:r>
            <a:r>
              <a:rPr b="1" lang="en-AU" sz="36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-541440" y="1557360"/>
            <a:ext cx="9144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       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Here I 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In Your presence Lo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Once aga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Waiting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For Your tou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For Your smile</a:t>
            </a:r>
            <a:r>
              <a:rPr b="1" lang="en-AU" sz="36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-541440" y="1557360"/>
            <a:ext cx="9144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       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Here we a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In Your presence Lo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Once aga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Waiting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For Your Lo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For Your Power</a:t>
            </a:r>
            <a:r>
              <a:rPr b="1" lang="en-AU" sz="36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-541440" y="1557360"/>
            <a:ext cx="9144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       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Here we a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In Your presence Lo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Once aga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Waiting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For Your tou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For Your smi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-541440" y="1557360"/>
            <a:ext cx="9144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       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Here we a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In Your presence Lo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Once aga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Thanking Yo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For Your lo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For Your pow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-541440" y="1557360"/>
            <a:ext cx="9144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       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Here we a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In Your presence Lo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Once aga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Thanking Yo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For Your tou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For Your smi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0" y="5942160"/>
            <a:ext cx="4572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by  Rick Stok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©1993 BOOTSINALL MUS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CCLI # 21507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3T07:23:10Z</dcterms:created>
  <dc:creator>Rick Stokes</dc:creator>
  <dc:description/>
  <dc:language>en-US</dc:language>
  <cp:lastModifiedBy>Rick Stokes</cp:lastModifiedBy>
  <dcterms:modified xsi:type="dcterms:W3CDTF">2006-01-10T23:10:11Z</dcterms:modified>
  <cp:revision>9</cp:revision>
  <dc:subject/>
  <dc:title>Slide 1</dc:title>
</cp:coreProperties>
</file>