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4002120" y="0"/>
            <a:ext cx="518940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473120"/>
            <a:ext cx="914400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V1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You wore the crown of thorns for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You bore the nail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that were meant for me</a:t>
            </a:r>
            <a:r>
              <a:rPr b="1" lang="en-NZ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ffff00"/>
                </a:solidFill>
                <a:latin typeface="Arial"/>
                <a:ea typeface="Arial"/>
              </a:rPr>
              <a:t>Y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ou carried my shame upon that t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(x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-612720" y="21337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V2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Jesus, You knew my p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Jesus, Your loss my 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Jesus, You died alone for me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           (x2)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0" y="3238560"/>
            <a:ext cx="9144000" cy="8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6668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(You cried) Father, forgive th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For they know not what they do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(x2)</a:t>
            </a:r>
            <a:r>
              <a:rPr b="1" lang="en-A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3623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V3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Jesus, You rose from the d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Jesus, crushed my enemy’s head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Jesus, in glorious vic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21304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V4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And Jesus, to you I will 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Jesus, give You every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  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Jesus, now I will live for You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    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(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repeat v1,  v4  to finis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en-A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79132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638680"/>
            <a:ext cx="9144000" cy="15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ords &amp; music by Rick Stok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©1995  BOOTSINALL MUS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CCLI # 2150596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07:23:10Z</dcterms:created>
  <dc:creator>Rick Stokes</dc:creator>
  <dc:description/>
  <dc:language>en-US</dc:language>
  <cp:lastModifiedBy>Rick Stokes</cp:lastModifiedBy>
  <dcterms:modified xsi:type="dcterms:W3CDTF">2006-01-10T04:26:07Z</dcterms:modified>
  <cp:revision>9</cp:revision>
  <dc:subject/>
  <dc:title>Slide 1</dc:title>
</cp:coreProperties>
</file>