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CBED-5AAD-4728-B6ED-B236F1F4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D81C-7FD0-416F-AE9F-4CB86480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C0A2-86C1-4337-B367-CF36581C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CE77-11D0-44B1-B81B-D6CCED37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7F32-079F-4DE9-8588-7E9A0C74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D632-A71D-4CAE-9ADF-518EED02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560A-5604-41FE-B03D-8FBCBF1C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120E-4470-4F63-AC68-D15EBB47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6E52-487E-402A-975A-7F6E58A8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DFB0-CBD8-4739-A3C2-CAB5A430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A14-18B2-4561-B1F7-1686D638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5F12-D498-4900-A1E4-07312EC0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C34A-0B3F-4884-9D12-339DB29712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3336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2638440"/>
                <a:tab algn="r" pos="5276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Righteous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8440"/>
                <a:tab algn="r" pos="5276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8440"/>
                <a:tab algn="r" pos="5276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Righteousness, peace and j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8440"/>
                <a:tab algn="r" pos="5276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Righteousness, peace and j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8440"/>
                <a:tab algn="r" pos="5276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x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8440"/>
                <a:tab algn="r" pos="5276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836640"/>
            <a:ext cx="882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2638440"/>
                <a:tab algn="r" pos="5276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1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   The Kingdom of Go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8440"/>
                <a:tab algn="r" pos="5276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the Bible s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8440"/>
                <a:tab algn="r" pos="5276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Is more than just our daily br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8440"/>
                <a:tab algn="r" pos="5276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In the Holy Ghost, we can f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8440"/>
                <a:tab algn="r" pos="5276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A life, a love, better than wine</a:t>
            </a:r>
            <a:r>
              <a:rPr b="1" lang="en-A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8100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Your righteousnes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gives me peace and j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Righteousness, peace and jo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Your righteousnes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gives me peace and j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Righteousness, peace and joy</a:t>
            </a:r>
            <a:r>
              <a:rPr b="1" lang="en-A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136520"/>
            <a:ext cx="9144000" cy="60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You who believe in 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Said Jesus, come,  follow 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All the things you see Me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You can do them, and greater than the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by  Rick St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1997 BOOTSINALL MU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CCLI # 2542166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06-01-10T23:22:10Z</dcterms:modified>
  <cp:revision>7</cp:revision>
  <dc:subject/>
  <dc:title>Slide 1</dc:title>
</cp:coreProperties>
</file>