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780-0553-44E3-BBE0-E25E52FF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1A3-B331-4C15-A780-CDA0ED3C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1F7-71FA-4347-BE6D-49AD51F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A529-E5C1-48AC-8718-9E33D9CD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899-945D-44E6-8899-5B860D2A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5B1-D5C3-4ADD-9FDC-39AD91B7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406-CEE1-4AC0-A414-61D8084B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E41-B857-4B48-8669-06936CDE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D71-90C2-4CA6-AE1D-81E2264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5D7-7DB8-4A0C-837C-67D82F9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118-E03B-40EF-80A5-A94BD1E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B4C-B4B1-4AFE-A1A8-D9DD23D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EA4-E2D5-4B47-9CA0-0F9AA0073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9144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e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      I delight in the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I delight in the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my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my heart and soul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8440"/>
                <a:tab algn="r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3623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r of all good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atisfy my heart’s pure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r of all pure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rant my heart’s good desires</a:t>
            </a:r>
            <a:r>
              <a:rPr b="1" lang="en-A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366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s I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s I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my heart, with all my heart and so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Oooh, I delight in You Lord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x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600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2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e delight in The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e delight in The Lord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our hear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our heart and soul.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1616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0464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r of all good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atisfy our hearts’ pure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iver of all pure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Grant our hearts’ good des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s we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As we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our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With all our heart and sou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24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970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Ooh… We delight in You Lor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Ooh… We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Ooh… We delight in You L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Repeat several times</a:t>
            </a:r>
            <a:r>
              <a:rPr b="1" i="1" lang="en-A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A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A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A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By Rick St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1400" spc="-1" strike="noStrike">
                <a:solidFill>
                  <a:srgbClr val="ffff00"/>
                </a:solidFill>
                <a:latin typeface="Arial"/>
              </a:rPr>
              <a:t>©1997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3:02:02Z</dcterms:modified>
  <cp:revision>12</cp:revision>
  <dc:subject/>
  <dc:title>Slide 1</dc:title>
</cp:coreProperties>
</file>