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BE8-B68D-4CC2-AA66-C8773319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6C2-8E4E-43DC-9166-98FCE7CC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C44-E525-47F2-9F7F-46038429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71F-1972-4704-A191-36A80F6A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D6A-8E1E-4B91-8BF9-24F6594B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6BE-D31B-4F0E-AEA0-085B12F5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704-68DB-4074-A0BA-CE649197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E6B-1024-4FE8-9503-41D39B50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B03-19A4-4945-8A48-996DDB7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3BD-2A22-4E07-B514-A83009C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EC2-1BDE-469B-AD59-9658A1C2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F73-9DB3-40E9-935C-CF12C4F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F6DF-B82F-46F7-A76B-71F80DC31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trength  And Shiel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Ps 28:7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e Lord is my strength and my sh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My heart trusted in Him, and I am help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e Lord is my strength and my sh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My heart trusted in Him, and I am helped</a:t>
            </a:r>
            <a:r>
              <a:rPr b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952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erefore my heart greatly rej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d with my song, will I praise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Therefore my heart greatly rejo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nd with my song, will I praise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by Rick Stok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©1997 BOOTSINALL MU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CCLI # 21505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832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06-01-10T23:22:39Z</dcterms:modified>
  <cp:revision>7</cp:revision>
  <dc:subject/>
  <dc:title>Slide 1</dc:title>
</cp:coreProperties>
</file>