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CDF-928E-4429-B566-A748772F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B09-49DB-4293-8EC7-583B0DDC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79A-5108-42BD-B7B6-F69F1FF6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04A-94AE-4704-9DE9-19AD77A0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869-F6F0-47DE-A202-C02AB503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154-B2DE-4B0C-AF29-5EFC984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3176-D9C7-4758-8FF2-0E641B4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597-1486-498A-98B2-73D59CC3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FDA-5DCF-4212-ABB5-FC5C39B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517-446D-482F-B4BD-0F5958E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128-86C4-4EBE-9A13-4892C7C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23F-21D8-42D9-A3FF-87E0D1A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729-128E-4DCD-95E6-9F6823BF6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079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ais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Praise the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For He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For His Mercy endures for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x2</a:t>
            </a: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76212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e praise the Beauty of Ho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oing out - before Your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n our weakness Lord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how Yourself stro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e turn our hearts toward Hea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nd know that our sins are forgi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e put our trust in Yo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lmighty G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341360"/>
            <a:ext cx="914400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Praise the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For You are good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For Your mercy endures for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x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by  Rick Stok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©1998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CLI # 2679709</a:t>
            </a:r>
            <a:r>
              <a:rPr b="1" lang="en-A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23:12:49Z</dcterms:modified>
  <cp:revision>7</cp:revision>
  <dc:subject/>
  <dc:title>Slide 1</dc:title>
</cp:coreProperties>
</file>