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DD8-2FC9-43EE-97F1-CDD45557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A4D-CCB5-43FD-8804-BE48BC1E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C6C-5FFA-4025-8CB7-D542652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0BC-65DB-4807-A1EF-CB4848EC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B71-2372-4AD9-8F58-137D4E6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6C0-DE59-47F7-A329-E871EB3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E73-7930-48BC-AB13-ECCF3B95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B6C-F5E8-45CE-97D8-5DB643C2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801-C463-4077-A238-9C0188C1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FB2-4F26-487F-A7E1-7B4A35C9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470-76D6-4672-B25F-BC7184F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27C0-F310-440C-B87F-144C153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ED2B-0937-43A2-B671-F113FC852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lessing and honour and gl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lessing and honour and glory Jesus</a:t>
            </a:r>
            <a:r>
              <a:rPr b="1" lang="en-NZ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ssing and honour and gl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o Your 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2536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nd Jesus we love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Father we worship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nd Holy Ghost, we welcome You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8100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nd we will bless Your Name, Oh L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will honour You, our God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e will glorify Your Name forever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(x2)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5772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                                                                         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Arial"/>
              </a:rPr>
              <a:t>by  Rick Stokes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©1996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CLI # 215061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467160"/>
          <a:ext cx="181080" cy="1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67160"/>
                    <a:ext cx="181080" cy="1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2:37:49Z</dcterms:modified>
  <cp:revision>5</cp:revision>
  <dc:subject/>
  <dc:title>Slide 1</dc:title>
</cp:coreProperties>
</file>